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02C-6FA0-444C-9CF3-6F60A724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CB7-9AE5-412E-88F7-E087C2BD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D6F-F6D0-41C0-B7AD-4C20ED2B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C9C-2345-4717-B40A-177A9B41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008-D733-441C-AE9A-66B95380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D93-19E1-4570-81B3-FA02AFC5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304-C1CF-4F4A-B813-E8B2F74D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B16-4AB5-47C1-82BB-B1F6D9C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318-DB55-4FFF-AC9D-3226649E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F6B-255C-4F2F-A076-85E2598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7EC-66BF-4586-9E7B-1E9734F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73C-3E1A-4E6C-99D7-4B5727C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2F15-CF54-4A73-9934-4F4B30836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ngelina Gar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743200" y="1600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farm4.static.flickr.com/3500/3234068659_b21cbe0dd4.jpg"/>
          <p:cNvPicPr/>
          <p:nvPr/>
        </p:nvPicPr>
        <p:blipFill>
          <a:blip r:embed="rId1"/>
          <a:stretch/>
        </p:blipFill>
        <p:spPr>
          <a:xfrm>
            <a:off x="2057400" y="2590920"/>
            <a:ext cx="47624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91440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wisdom and the right to live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upload.wikimedia.org/wikipedia/commons/thumb/c/c3/Raphael_School_of_Athens.jpg/300px-Raphael_School_of_Athens.jpg"/>
          <p:cNvPicPr/>
          <p:nvPr/>
        </p:nvPicPr>
        <p:blipFill>
          <a:blip r:embed="rId1"/>
          <a:stretch/>
        </p:blipFill>
        <p:spPr>
          <a:xfrm>
            <a:off x="2438280" y="2971800"/>
            <a:ext cx="4491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457200" y="1752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mlahanas.de/Greece/Regions/images/ChalcidiceM.gif"/>
          <p:cNvPicPr/>
          <p:nvPr/>
        </p:nvPicPr>
        <p:blipFill>
          <a:blip r:embed="rId1"/>
          <a:stretch/>
        </p:blipFill>
        <p:spPr>
          <a:xfrm>
            <a:off x="1905120" y="2743200"/>
            <a:ext cx="4848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676520" y="17524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greece.mrdonn.org/pelopo1.gif"/>
          <p:cNvPicPr/>
          <p:nvPr/>
        </p:nvPicPr>
        <p:blipFill>
          <a:blip r:embed="rId1"/>
          <a:stretch/>
        </p:blipFill>
        <p:spPr>
          <a:xfrm>
            <a:off x="2438280" y="2743200"/>
            <a:ext cx="3867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523880" y="144792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nd of government 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esterlund10.wikis.birmingham.k12.mi.us/file/view/oligcarchy.jpg/208643622/oligcarchy.jpg"/>
          <p:cNvPicPr/>
          <p:nvPr/>
        </p:nvPicPr>
        <p:blipFill>
          <a:blip r:embed="rId1"/>
          <a:stretch/>
        </p:blipFill>
        <p:spPr>
          <a:xfrm>
            <a:off x="2514600" y="2743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219320" y="1371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eltered place along a coast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eyefetch.com/p/4r/1488265-3ec27a41-87b0-44fd-9ef1-606d93697446.jpg"/>
          <p:cNvPicPr/>
          <p:nvPr/>
        </p:nvPicPr>
        <p:blipFill>
          <a:blip r:embed="rId1"/>
          <a:stretch/>
        </p:blipFill>
        <p:spPr>
          <a:xfrm>
            <a:off x="2209680" y="3124080"/>
            <a:ext cx="448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www.wallpaperlounge.eu/data/media/920/The_Parthenon_Acropolis_Athens_Greece.jpg"/>
          <p:cNvPicPr/>
          <p:nvPr/>
        </p:nvPicPr>
        <p:blipFill>
          <a:blip r:embed="rId1"/>
          <a:stretch/>
        </p:blipFill>
        <p:spPr>
          <a:xfrm>
            <a:off x="1981080" y="28954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eurail.com/sites/all/files/all/photos/tourism/countries/greece/agora_athens_greece_ventdusud-600.jpg"/>
          <p:cNvPicPr/>
          <p:nvPr/>
        </p:nvPicPr>
        <p:blipFill>
          <a:blip r:embed="rId1"/>
          <a:stretch/>
        </p:blipFill>
        <p:spPr>
          <a:xfrm>
            <a:off x="1905120" y="2286000"/>
            <a:ext cx="50958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914400" y="16002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t1.gstatic.com/images?q=tbn:ANd9GcQDto4DMB6XZYg4U2morbDPPoeLrQAiWlkXZ6I7G7bYWsTzk31eopwMizpcyw"/>
          <p:cNvPicPr/>
          <p:nvPr/>
        </p:nvPicPr>
        <p:blipFill>
          <a:blip r:embed="rId1"/>
          <a:stretch/>
        </p:blipFill>
        <p:spPr>
          <a:xfrm>
            <a:off x="2133720" y="3352680"/>
            <a:ext cx="47242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295280" y="167652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2.bp.blogspot.com/-fEFSpISshxY/Ten3VZdexjI/AAAAAAAAMfc/tsFBOiTWND8/s1600/ancient+greek+citizens.jpg"/>
          <p:cNvPicPr/>
          <p:nvPr/>
        </p:nvPicPr>
        <p:blipFill>
          <a:blip r:embed="rId1"/>
          <a:stretch/>
        </p:blipFill>
        <p:spPr>
          <a:xfrm>
            <a:off x="2209680" y="2971800"/>
            <a:ext cx="5124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sfakia-crete.com/sfakia-crete/greekmigration.gif"/>
          <p:cNvPicPr/>
          <p:nvPr/>
        </p:nvPicPr>
        <p:blipFill>
          <a:blip r:embed="rId1"/>
          <a:stretch/>
        </p:blipFill>
        <p:spPr>
          <a:xfrm>
            <a:off x="2362320" y="2895480"/>
            <a:ext cx="36957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144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 of government where people vote to make dec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1.gstatic.com/images?q=tbn:ANd9GcQXNIKnzi4LtYvs-KYf0oSJppjOP9L93mXB87JVzDaKHZVF5OB-tIAeK4xV"/>
          <p:cNvPicPr/>
          <p:nvPr/>
        </p:nvPicPr>
        <p:blipFill>
          <a:blip r:embed="rId1"/>
          <a:stretch/>
        </p:blipFill>
        <p:spPr>
          <a:xfrm>
            <a:off x="2819520" y="3352680"/>
            <a:ext cx="38862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523880" y="152388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t evidence and make decisions in a court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www.jeron.je/anglia/learn/pri/history/greeks/image5.jpg"/>
          <p:cNvPicPr/>
          <p:nvPr/>
        </p:nvPicPr>
        <p:blipFill>
          <a:blip r:embed="rId1"/>
          <a:stretch/>
        </p:blipFill>
        <p:spPr>
          <a:xfrm>
            <a:off x="2438280" y="335268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523880" y="1371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greece.mrdonn.org/argos.1.gif"/>
          <p:cNvPicPr/>
          <p:nvPr/>
        </p:nvPicPr>
        <p:blipFill>
          <a:blip r:embed="rId1"/>
          <a:stretch/>
        </p:blipFill>
        <p:spPr>
          <a:xfrm>
            <a:off x="2743200" y="2590920"/>
            <a:ext cx="31910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21:02Z</dcterms:modified>
  <cp:revision>95</cp:revision>
  <dc:subject/>
  <dc:title>Ancient Greece</dc:title>
</cp:coreProperties>
</file>